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6DB-1F98-4B62-B277-C15CD113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661-864D-4AD0-9390-615AF8BC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5F9-DD60-4257-AF3D-B117F5F3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635-7203-47A4-808E-AE3F4BF1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D7F-D1B3-46FF-AB40-F14B9560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B02-58FD-4BC6-9F0E-F81282C4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444-8FAA-409B-BF99-344F4FB2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FE0-F497-4DCF-8BB7-B71B43CD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D2D-ABCE-452A-AA81-FA5D8BFC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84A-4EF2-413C-9AF4-75B4995A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0BC-41BE-43AC-B8BB-ADDD831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F2F-AA61-4BB5-AB10-766C3B96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71E0-8E1A-4341-B414-8B3BDA7A9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Kd56D2mvN0" TargetMode="External"/><Relationship Id="rId2" Type="http://schemas.openxmlformats.org/officeDocument/2006/relationships/hyperlink" Target="http://www.youtube.com/watch?v=1rkkKyYCxio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42960" y="114300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youtube.com/watch?v=OKd56D2mvN0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– tongue s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30200" y="2179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171468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youtube.com/watch?v=1rkkKyYCx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namib liza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71680" y="2500200"/>
            <a:ext cx="76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concord.org/~btinker/workbench_web/models/osmosis.s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00040" y="328608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youtube.com/watch?v=J1PqUB7Tu3Y&amp;feature=fvw   - water transport in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faculty.uca.edu/johnc/CounterCurrentHeat.gif"/>
          <p:cNvPicPr/>
          <p:nvPr/>
        </p:nvPicPr>
        <p:blipFill>
          <a:blip r:embed="rId1"/>
          <a:stretch/>
        </p:blipFill>
        <p:spPr>
          <a:xfrm>
            <a:off x="714240" y="214200"/>
            <a:ext cx="720108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6072120"/>
            <a:ext cx="92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biology.ualberta.ca/facilities/multimedia/uploads/zoology/counter%20current.s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00:52Z</dcterms:created>
  <dc:creator>Anna</dc:creator>
  <dc:description/>
  <dc:language>en-US</dc:language>
  <cp:lastModifiedBy>Dan Leaver</cp:lastModifiedBy>
  <dcterms:modified xsi:type="dcterms:W3CDTF">2010-09-30T03:03:16Z</dcterms:modified>
  <cp:revision>96</cp:revision>
  <dc:subject/>
  <dc:title>Slide 1</dc:title>
</cp:coreProperties>
</file>