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BF8-B83E-4EA7-A48A-3AF690ED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372-9228-4D37-81EC-7DCC3F3F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7FDB-F841-480A-91B9-7844E33B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8869-F018-4DF9-A954-5BE83F2D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F930-7B50-4546-A71E-76FE4688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5338-DFB9-4737-999A-BDED6603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21BC-5E10-437F-B355-02A9C8D0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ABC4-6B79-4CAF-8B63-A5D2896A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471A-06E4-47E1-A7B4-2966F144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CBA1-1B20-46E4-BBB9-3398685A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A06-1E83-4B75-B47E-73BDE347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86D-EA50-4D0E-8AB0-9A975B30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C239-E837-41E4-B230-B1D63880C0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Kd56D2mvN0" TargetMode="External"/><Relationship Id="rId2" Type="http://schemas.openxmlformats.org/officeDocument/2006/relationships/hyperlink" Target="http://www.youtube.com/watch?v=1rkkKyYCxio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42960" y="114300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youtube.com/watch?v=OKd56D2mvN0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– tongue se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430200" y="2179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14240" y="171468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youtube.com/watch?v=1rkkKyYCx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namib liza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71680" y="2500200"/>
            <a:ext cx="76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concord.org/~btinker/workbench_web/models/osmosis.sw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00040" y="3286080"/>
            <a:ext cx="80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youtube.com/watch?v=J1PqUB7Tu3Y&amp;feature=fvw   - water transport in p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faculty.uca.edu/johnc/CounterCurrentHeat.gif"/>
          <p:cNvPicPr/>
          <p:nvPr/>
        </p:nvPicPr>
        <p:blipFill>
          <a:blip r:embed="rId1"/>
          <a:stretch/>
        </p:blipFill>
        <p:spPr>
          <a:xfrm>
            <a:off x="714240" y="214200"/>
            <a:ext cx="720108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0" y="6072120"/>
            <a:ext cx="92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biology.ualberta.ca/facilities/multimedia/uploads/zoology/counter%20current.sw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1:00:52Z</dcterms:created>
  <dc:creator>Anna</dc:creator>
  <dc:description/>
  <dc:language>en-US</dc:language>
  <cp:lastModifiedBy>Dan Leaver</cp:lastModifiedBy>
  <dcterms:modified xsi:type="dcterms:W3CDTF">2010-09-30T03:03:16Z</dcterms:modified>
  <cp:revision>96</cp:revision>
  <dc:subject/>
  <dc:title>Slide 1</dc:title>
</cp:coreProperties>
</file>