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AC3-3E8B-4089-B6FC-5D6DA3F3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ACE-68A8-4574-A294-C72C6CF4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666-1E90-4A1B-AF30-97B9B35A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204-45A2-4CF1-8ED2-6A8F5EB6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039-0EFB-4E35-90EE-00DDEBCA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CFC-D9F4-48F3-9379-02A41DAD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698-C628-4B9F-96F0-186B47D0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949-4241-409F-A1B3-ACFC3DD5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DD8-7E03-4B59-90AE-20053613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B7F-D6F4-4078-8229-4FB7EF8F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0FE-07F0-4168-AAD8-6901FD9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E89-701A-45ED-B673-7067393A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7052-6AFE-4592-940B-E55E659B8D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Kd56D2mvN0" TargetMode="External"/><Relationship Id="rId2" Type="http://schemas.openxmlformats.org/officeDocument/2006/relationships/hyperlink" Target="http://www.youtube.com/watch?v=1rkkKyYCxio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42960" y="114300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youtube.com/watch?v=OKd56D2mvN0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– tongue s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30200" y="2179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171468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youtube.com/watch?v=1rkkKyYCx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namib liza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71680" y="2500200"/>
            <a:ext cx="76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concord.org/~btinker/workbench_web/models/osmosis.s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00040" y="328608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youtube.com/watch?v=J1PqUB7Tu3Y&amp;feature=fvw   - water transport in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faculty.uca.edu/johnc/CounterCurrentHeat.gif"/>
          <p:cNvPicPr/>
          <p:nvPr/>
        </p:nvPicPr>
        <p:blipFill>
          <a:blip r:embed="rId1"/>
          <a:stretch/>
        </p:blipFill>
        <p:spPr>
          <a:xfrm>
            <a:off x="714240" y="214200"/>
            <a:ext cx="720108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6072120"/>
            <a:ext cx="92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biology.ualberta.ca/facilities/multimedia/uploads/zoology/counter%20current.s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00:52Z</dcterms:created>
  <dc:creator>Anna</dc:creator>
  <dc:description/>
  <dc:language>en-US</dc:language>
  <cp:lastModifiedBy>Dan Leaver</cp:lastModifiedBy>
  <dcterms:modified xsi:type="dcterms:W3CDTF">2010-09-30T03:03:16Z</dcterms:modified>
  <cp:revision>96</cp:revision>
  <dc:subject/>
  <dc:title>Slide 1</dc:title>
</cp:coreProperties>
</file>