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15B-4F3A-412A-85C5-35C73BC0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ED6-8F50-48B0-B52D-4E216C6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A87-E9F1-4BBA-B5E8-763E6D79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BBB-8B51-43FB-BDEC-4D6FC781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82E-92E6-43CB-88A2-40E5C5A4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6A4-AB79-4E0A-A602-94849630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5D5-7B09-4F66-846C-E65B28F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B22-39B7-43FA-8BA3-8CFED37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99A-37C8-4F6E-AECC-C629C13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D67-772C-4FB4-8A03-DB58CCD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708-9E03-4158-892F-C14D0A4C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13E-8B30-4ABC-93EE-7136E29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650-625E-4F93-953B-F25BE3D9D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Kd56D2mvN0" TargetMode="External"/><Relationship Id="rId2" Type="http://schemas.openxmlformats.org/officeDocument/2006/relationships/hyperlink" Target="http://www.youtube.com/watch?v=1rkkKyYCxi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42960" y="114300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youtube.com/watch?v=OKd56D2mvN0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tongue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30200" y="2179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17146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youtube.com/watch?v=1rkkKyYCx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namib liza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71680" y="25002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concord.org/~btinker/workbench_web/models/osmosis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00040" y="328608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youtube.com/watch?v=J1PqUB7Tu3Y&amp;feature=fvw   - water transport in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aculty.uca.edu/johnc/CounterCurrentHeat.gif"/>
          <p:cNvPicPr/>
          <p:nvPr/>
        </p:nvPicPr>
        <p:blipFill>
          <a:blip r:embed="rId1"/>
          <a:stretch/>
        </p:blipFill>
        <p:spPr>
          <a:xfrm>
            <a:off x="714240" y="214200"/>
            <a:ext cx="72010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607212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biology.ualberta.ca/facilities/multimedia/uploads/zoology/counter%20current.s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00:52Z</dcterms:created>
  <dc:creator>Anna</dc:creator>
  <dc:description/>
  <dc:language>en-US</dc:language>
  <cp:lastModifiedBy>Dan Leaver</cp:lastModifiedBy>
  <dcterms:modified xsi:type="dcterms:W3CDTF">2010-09-30T03:03:16Z</dcterms:modified>
  <cp:revision>96</cp:revision>
  <dc:subject/>
  <dc:title>Slide 1</dc:title>
</cp:coreProperties>
</file>